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FB0-AE02-43A9-8CF9-F307661E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AC7-2A89-4AFC-8CBA-E9253C46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2AAD-B047-4D3F-A87A-D6904A2D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A6D-1C5A-4D87-9CF3-2E0C0F29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35D-7E5E-41C4-86F1-626002CF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3D1-3F62-43E8-A1F2-69A545C1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9A4-55EE-4C1F-9578-7FD83259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B15-E8C1-4282-BCCB-D90C1487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FB3-19A0-4541-B47C-7BE5E728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9F1-EFA1-46F5-95A7-EB78EFD4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F8D-32D3-466B-979E-BDDD0F90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F56-ECCF-4016-B3F7-7CC4E298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404F-B18D-4CE2-B595-5A9847CC3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bby Se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as a political activist, Black Panther, and cultural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th and child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by seale was born in 1936 in Dallas,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Grew up in texas, but relcoated to Oakland due to World War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ropped out of high school and joined the Air Force, but was dishonorably discharged after only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5880" y="5105520"/>
            <a:ext cx="1673280" cy="1401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676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ing the black pan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age of 25, Seale attended Oakland City College, Joined the Afro-American-Assosiation, and met the man whth whom he co founded the black panthers with, Huey New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gether, the two would form the black panther party in october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34320" y="4191120"/>
            <a:ext cx="2019240" cy="2361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14800" y="4800600"/>
            <a:ext cx="1438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Black Panther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ack Panther Party was an african american revolutionary group aimed at giving blacks more power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d that Blacks in america were greatly mis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bby Seales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by Seale’s biggest biggest influence to start the Black Panther Party was a black civil rights activist named Malcom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5880" y="3276720"/>
            <a:ext cx="2713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2:12:06Z</dcterms:created>
  <dc:creator>Joe Mixie</dc:creator>
  <dc:description/>
  <dc:language>en-US</dc:language>
  <cp:lastModifiedBy>Joe Mixie</cp:lastModifiedBy>
  <dcterms:modified xsi:type="dcterms:W3CDTF">2010-12-17T02:46:18Z</dcterms:modified>
  <cp:revision>2</cp:revision>
  <dc:subject/>
  <dc:title>Bobby Seale</dc:title>
</cp:coreProperties>
</file>